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222574-9B6D-42A5-AF51-47DA8B064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34048F-0F31-4C72-B94A-81598737A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rcentage of worldwide deaths can be attributed to coronary artery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common presenting and pathologic symptoms of coronary artery disease. (angina pectoris; pain of myocardial infarction is described as burning, squeezing, crushing, radiating to arm, neck, or ja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contributing factors to coronary artery disease? (genetic predisposition; smoking; residence in urban society; hypertension; diabetes; obesity; high choleste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que? (fat-containing substances in the lumen [opening] of the coronary arte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54A7AF-3EEC-4DC2-98A5-A591000D1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, causes, and treatments of left- and right-sided heart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Figure 10-21 (p. 44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639C35-0CDF-4423-903A-EF187297AA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 is most at risk of developing rheumatic fe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immune system’s response to strep throat lead to rheumatic fe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164DDC-E1E1-4847-B999-AE218D37C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alve condition often follows rheumatic fe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ood dental hygiene important to the treatment of rheumatic heart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48459B-7C43-43F7-A734-8D94CF8A6B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eart valve is most often affected by valvular heart dise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mitral valve pro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0DD331-663E-46B9-887C-0A186F5A5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valvular heart disease diagnosed? (ECG, radiographic chest studies, echocardiogram, and cardiac catheter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reatment for valvular heart disease (administration of digitalis or quinidine and antibiotic prophyl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EFBC83-D95A-4BC2-8EFB-2B00F1BA8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tachycardia and bradycardia? (Refer to Table 10-1 pp. 457-45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Coumadin? (anticoagulant that prevents thromboembolism and resulting ag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B48C71-C444-443A-B1B0-C3B875A56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ides blood clots, what other types of material can make up embo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embo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venous thromb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use of heparin and couma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angrene and how can it be avoided in arterial emboli pati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AA2132-B8C4-4FC2-9470-571D00A83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ardening of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Mönckeberg arterioscler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 is the cause of most myocardial and cerebral infar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AECA80-E06E-4F9E-B209-854697F2A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lipids and cholesterol do? (they form thick, stiff, hardened lesions in the medium and large arteries; the lesions eventually expand to occlude the arte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therosclerosis treated? (Dietary changes to reduce saturated fats and foods high in cholesterol and lipids; cessation of smoking; administration of hyperlipidemic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C14FFC-3D28-40F7-9F45-63AD16932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form of aneury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causes of aneurysm. (buildup of atherosclerotic plaque that weakens the vessel wall; trauma; infection or inflammation; congenital tendenc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form of treatment for aneury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E7F06E-53D6-4EFF-951D-1D21F36758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exertion can cause angina pecto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yocard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angina pectoris patients take nitroglycerin? (nitroglycerin tablets are placed under the tongue; transdermal nitrglycerin helps to prevent angi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595B1F-EFFE-437B-ADDB-3A92EC9B0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possible causes of phlebitis? (venous stasis, obesity, blood disorders, injury, surge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thrombus and an embol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extended standing or sitting be a cause of varicose ve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1AE311-8659-4B94-909D-5A2CB08A3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hewing an aspirin tablet recommended during a heart attack? (aspirin reduces the risk of additional damage to heart and tissue by ischem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preventive measures that can be taken to reduce the risk of heart attack. (lifestyle modification: exercise; diet low in fat, cholesterol, and salt; control of hypertension; weight loss; cessation of smok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4EBC58-657F-4E34-ABA7-CE6D3670C0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ime window from the onset of the infarction before permanent damage results? (six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new AHA CPR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ED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rapeutic hypothermia as part of a treatment option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834008-E24B-41EF-B02F-615270690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elevated blood pressure cause heart disease? (damage to renal blood vessels; increased work for the heart, causing left-sided CHF; damage to cerebral arteries, causing stroke; damage to arterial walls, leading to atheroscler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major factors that contribute to hypertensive heart disease. (stress, age, heredity, smoking, obesity, hyperactive persona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3A3922-3C5F-4055-863C-A0787C65E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irst indication of hypertension? (elevated blood pressure readings -- systolic reading greater than 140 mm Hg and diastolic reading greater than 90 mm Hg indicate hyperten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52399F-F0E4-4FBF-92C3-FE8071479E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hypertensive heart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ifferences between essential hypertension and malignant hyper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symptoms of hypertensive heart disease. (headaches, epistaxis, lightheadedness, synco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Figure 10-18 (p. 43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5D2A11-EBDA-4978-8DCD-8A726B50D0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causes of congestive heart fail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n echocardiogram help in diagnosing congestive heart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515C5D-697C-42C6-B14B-86EF8D96E7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reatment of CHF. (administration of digitalis to strengthen and slow the heartbeat; beta-blockers and ACE inhibitors to increase blood flow; diuretics to reduce volume of fluid in the body; vasodilators to reduce vascular press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ognosis for acute and chronic CHF? (acute CHF usually responds to medical intervention; patient with chronic CHF is vulnerable to major organ impair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1030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ronary Artery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onary artery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ing the arteries that suppl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um, in which the arteries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owed due to atherosclerotic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ime, causing temporary cardi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chemia and eventually heart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gestive Heart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-sided congestive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ventricle does not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backs up in pulmonary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cong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-sided congestive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le cannot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backs up in systemic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 in legs and digest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heumatic Fev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eumatic fev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systemic inflamm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utoimmune disease involvi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s and cardiac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preceded by sore throat caused by group A beta-hemolytic streptococ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heumatic F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eumatic heart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rdi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festations that follow rheumatic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ffects mitral and aortic va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lvular Heart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vular heart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cquired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sorder that can involve any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valves of the heart (pulmona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uspid, aortic, or mi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ral valve prolap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VP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ccurs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ve cusps do not close comple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lve Insufficiency and Ste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ve insufficienc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ilure of valves to close completely, allows blood to be forced back into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nosi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ning of cusps of valves that prevents complete opening of valves, impedes blood flow into next ch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rdiac Arrhythmia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arrhythmias (irre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tbeat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y deviation from the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beat, i.e., the normal sinus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boli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ots of aggregated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usually blood) that can lodge in a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sel and inhibit the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nous thromb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clot that has formed in the deep veins of the le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type of em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erioscler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 that occ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alls of the arterioles thick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oss of elasticity and contrac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heroscler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thickening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ning of the arteries that occurs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ques of cholesterol and lipids form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erial tunica in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sk Factors of Atheroscler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ntary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 rich in lipids and cholesterol-producing f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eurys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weakening and resu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dilation of the wall of an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ronary Arte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ina pector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 of 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tion that is the result of re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supply to the myocar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leb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nflammation of a vein that occ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ten in the lower legs, but any vein may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ophleb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result of an inflam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vein with the formation of a thrombus o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se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cose vei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wollen, tortuous, and knot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ns that usually occur in the lower le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ronary Arte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cardial infar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MI) - Death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tissue caused by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 is coronary thromb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oxygen, give morphine for 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aspir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e vasodilation by nitroglycerin dr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lidocaine by intravenous dr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thrombolytic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blood flow by angioplas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atment Options for Myocardial Infar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ertensive Heart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ertensive heart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chronically elevate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e vascula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evalent cardiovascular dis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eatment of Hypertens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uretics to reduce circulating bloo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a-adrenergic blockers to slow heartb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odilators to dilat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otensin-converting enzyme (ACE) inhibitors to produce vasodilation and increase renal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ertensive Heart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ntial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gestive Heart Failu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gestive heart failure (CHF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or chronic inability of the heart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 enough blood throughout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ly increasing dysp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and respiratory rates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veins dis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 in a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r and spleen en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s of Congestive Heart Fail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59:33Z</dcterms:created>
  <dc:creator>Elaine Gillingham</dc:creator>
  <dc:description/>
  <dc:language>en-US</dc:language>
  <cp:lastModifiedBy>Student</cp:lastModifiedBy>
  <cp:lastPrinted>2004-11-23T20:33:28Z</cp:lastPrinted>
  <dcterms:modified xsi:type="dcterms:W3CDTF">2011-06-14T20:28:58Z</dcterms:modified>
  <cp:revision>780</cp:revision>
  <dc:subject/>
  <dc:title>Management Techniques for the Health Unit Coordinator</dc:title>
</cp:coreProperties>
</file>